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6203-8FC0-405D-A078-4876EB7F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7B3C-60E0-4A31-9A75-D5DD8371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8558-67C6-4B9F-9394-B690691E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BE1A-A97A-4AA2-AE5A-B78C2D66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CEEC-2F41-40A7-8774-66827B11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E050-6E54-467C-9FE6-87EEC6E3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66A2-7DBF-45F6-B62C-C54B0644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7501-1C31-4CCF-9D6E-61C5B252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1F00-0548-4777-A58E-6C0BCDBE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FDE1-EC4F-41B0-8C43-A7FCC81E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37C6-BE08-477A-A29F-A3C368E5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F5B1-72F1-45A6-93A7-135E86FD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6AB1-D549-4F93-9D20-44530F1E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3105-BCD6-4E3C-9DD9-4A18C664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1EC7-861C-4B4D-8E62-78AE30FD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1C23-4C2E-4075-9CAF-24BD413A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719E-FC66-4C03-924A-9B95DEA6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DC6B-AF34-42AE-AEAF-A3743B4A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1768-4EBE-4847-A287-19C317B7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D848-161D-4652-BE8B-FB1520BD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94A-30DB-409B-BEEE-AA182BE4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DD3B-CF3A-49CE-AAB3-03E65276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68EB-4374-47CF-9342-8E45F68A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9517-5615-4B5C-AED0-2ACB86B5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E02B-FA14-4D59-BD6B-8439FD57AC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CAD1-9ADA-4B52-B72A-5A184D44AE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СПЛАТИВОСТ ИНВЕСТИЦИОНИХ УЛАГАЊ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457200" y="0"/>
            <a:ext cx="8096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чке метод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0948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2571840"/>
                <a:gridCol w="565776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сконтна сто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о садашња вред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2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.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о 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Оцена исплативости инвести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Сврха инвестира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дустајање од текуће потрошње да би се кроз инвестирање обезбедили позитивни ефекти у будућ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цена исплативости инвестиција може се вршити коришћењем 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две групе показатељ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Статичке методе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Динамике мет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татичке метод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азивају се још и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традиционалне мет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Важна карактеристика је да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не укључују временску компоненту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, али је то истовремено и њихов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највећи недостат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 статичке методе се убрајај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ff0000"/>
                </a:solidFill>
                <a:latin typeface="Arial"/>
              </a:rPr>
              <a:t>Период повраћај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Arial"/>
              </a:rPr>
              <a:t>Рачуноводствена стопа принос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татичке метод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Период повраћај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се одређује бројем година који је потребно да протекне да би се из годишњих нето новчаних токова отплатио иницијални капитални издат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581280" y="3886200"/>
            <a:ext cx="5181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T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– нето новчани ток у години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p 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– период повраћ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– инвестициони тро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868320" y="4572000"/>
            <a:ext cx="1822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татичке метод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752480"/>
          <a:ext cx="8229600" cy="4772160"/>
        </p:xfrm>
        <a:graphic>
          <a:graphicData uri="http://schemas.openxmlformats.org/drawingml/2006/table">
            <a:tbl>
              <a:tblPr/>
              <a:tblGrid>
                <a:gridCol w="1646280"/>
                <a:gridCol w="3840120"/>
                <a:gridCol w="2743200"/>
              </a:tblGrid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ишњи нето новчани ток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татак улаг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 повраћа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чке метод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Важна карактеристика је да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 укључују временску компоненту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, односно респектују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временску вредност нов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инамичке методе се заснивају на 2 поступ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ff0000"/>
                </a:solidFill>
                <a:latin typeface="Arial"/>
              </a:rPr>
              <a:t>Дисконтовањ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ff0000"/>
                </a:solidFill>
                <a:latin typeface="Arial"/>
              </a:rPr>
              <a:t>Капитализациј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 динамичке методе се убрајај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ff0000"/>
                </a:solidFill>
                <a:latin typeface="Arial"/>
              </a:rPr>
              <a:t>Метод нето садашње вредност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ff0000"/>
                </a:solidFill>
                <a:latin typeface="Arial"/>
              </a:rPr>
              <a:t>Интерна стопа принос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чке метод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СВ је разлика између садашње вредности очекиваних нето прилива од пројекта и инвестиционог трошка. 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Критеријум – НСВ веће од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2781360" cy="1143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3581280" y="3886200"/>
            <a:ext cx="5181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PV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– нето садашња вред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– трајање прој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T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– нето новчани ток у години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 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– година прој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– инвестициони тро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 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– захтевани при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чке метод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1676520"/>
          <a:ext cx="8610480" cy="5025960"/>
        </p:xfrm>
        <a:graphic>
          <a:graphicData uri="http://schemas.openxmlformats.org/drawingml/2006/table">
            <a:tbl>
              <a:tblPr/>
              <a:tblGrid>
                <a:gridCol w="1344600"/>
                <a:gridCol w="2063880"/>
                <a:gridCol w="3049560"/>
                <a:gridCol w="2152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и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вчани 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сконтни фактор 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=1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дашња вред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2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2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9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2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84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о садашња вред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6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чке метод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СП је она дисконтна стопа која НСВ своди на 0 (нулу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Критеријум – ИСП треба да буде већа од трошка капитала (камат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581280" y="3962520"/>
            <a:ext cx="5181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– трајање прој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T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– нето новчани ток у години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 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– година прој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– инвестициони тро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RR 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– ИСП (интерна стопа прино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431640" y="4572000"/>
            <a:ext cx="27864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22T20:05:55Z</dcterms:modified>
  <cp:revision>155</cp:revision>
  <dc:subject/>
  <dc:title>Soft and Hard Skills Development: A Current Situation in Serbian Companies</dc:title>
</cp:coreProperties>
</file>